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0BD-2695-469D-B39C-DCE8FE00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F57-4CC6-4A6D-89FD-80E565DC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995-5979-4DAD-B2C3-3C680812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20E-74F3-4EED-BFE5-3F650068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654-45B7-48EF-808C-02D57327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BED-89C8-4455-B89D-71CC3683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A75-032C-4E0B-8127-2C42FF67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825-9292-4D22-80F1-8FF3582A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DB9-8817-4B72-8CAB-A9A12D2A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E47-BB5A-4714-8F05-FF291EE8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4E2-F40C-4566-B345-A6FB7A60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219-52C7-434A-B31C-B63EC87B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9F0F-9ED8-4176-B5C0-CB13EA7A1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 to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serve the Lo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8:39Z</dcterms:created>
  <dc:creator>Anon Anon</dc:creator>
  <dc:description/>
  <dc:language>en-US</dc:language>
  <cp:lastModifiedBy>Anon Anon</cp:lastModifiedBy>
  <dcterms:modified xsi:type="dcterms:W3CDTF">2005-08-09T05:28:13Z</dcterms:modified>
  <cp:revision>8</cp:revision>
  <dc:subject/>
  <dc:title>PowerPoint Presentation</dc:title>
</cp:coreProperties>
</file>